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8218-B8DD-45EC-8487-A22332076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95FD-E988-4F79-8509-3481AB86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6488-B0B4-4E6C-9A12-449EFD0D7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A133-0508-42AE-990B-D33061D62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FEE62-5925-4DEC-832F-DF51466DF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C1AA-5868-4085-91C7-F124D2C4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BC20-4C3C-45C5-8221-97888FA4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2DDF-C072-4B02-B326-D8878786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5458-CFFE-4656-A10E-70D934DC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D843-EB5C-4B75-AE15-D36FE3FB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911C-942E-48EF-9787-BD9A4109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E970-6B83-4B1E-87B2-0D30B85D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FD6A-C629-494A-9F24-326BE51C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6821-6200-4B45-B8DA-902B2186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03EC-AC78-449D-9AC0-3469A441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5BB1-1E52-4FE0-9548-336A40129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5AAD-96EB-423C-B5FA-BD7439780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D497-5B53-4F58-B081-34E27C63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C240-FB2C-4724-95A9-2118CC31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5BDF-6CE0-4FDC-8D98-53B7714B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E292-2B4B-4ECE-8955-715F6D97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DC5F-576B-41AD-9E76-9285821D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6AF1-127B-4E66-A9C3-B86503BD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A028-D958-4489-8408-4B5ADFE4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E500-ADE3-49B9-943F-18EBCA27699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9860-B316-40BA-8FF3-9B0B0FCC85E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Genesis 28:10  - 30:4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on 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ajor Poi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14480" y="1314360"/>
            <a:ext cx="736740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ajor Poi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thel: Jacob’s Vision And “House of God” Experience. 28:10-2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cob Resumes His Journey And Meets Rachel. 29:1-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cob Is Warmly Received. 29:13,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cob Loves Rachel And Works Hard to Get Her. 29:15-2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cob Is Deceived By Laban. 29:21-3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ajor Poi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h Bears Children, Rachel Is Barren. 29:3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h’s S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uben = See, A 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meon = Hea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vi = Attach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dah = Pra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ajor Poi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rth Of Others of the Patriarchs -30:1-2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lhah, Rachels Handmaid Bor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n = Jud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phtali = My Wrestl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ilpah, Leah’s Handmaid bor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ad =Troop or Fortu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ajor Poi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ilpah Also Bor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her = Happ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h Again Bor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sachar =Wa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ebulun = Dwell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Daughter: Din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ajor Poi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chel Finally Bor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seph = He Will Ad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cob’s Agreement With Laban, And His Special Blessings – 30:25-4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03:41:50Z</dcterms:created>
  <dc:creator>Terry W. Benton</dc:creator>
  <dc:description/>
  <dc:language>en-US</dc:language>
  <cp:lastModifiedBy>Terry W. Benton</cp:lastModifiedBy>
  <dcterms:modified xsi:type="dcterms:W3CDTF">2004-09-01T17:21:37Z</dcterms:modified>
  <cp:revision>4</cp:revision>
  <dc:subject/>
  <dc:title>Genesis 28:10  - 30:43</dc:title>
</cp:coreProperties>
</file>